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3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wmf" ContentType="image/x-wmf"/>
  <Override PartName="/ppt/media/image6.jpeg" ContentType="image/jpeg"/>
  <Override PartName="/ppt/media/image4.png" ContentType="image/png"/>
  <Override PartName="/ppt/media/image12.wmf" ContentType="image/x-wmf"/>
  <Override PartName="/ppt/media/image7.png" ContentType="image/png"/>
  <Override PartName="/ppt/media/image11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marL="119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19880" indent="-11988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19880" indent="-119880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119880" indent="-11988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119880" indent="-1198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119880" indent="-1198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119880" indent="-1198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marL="2916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291600" indent="-29160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291600" indent="-291600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91600" indent="-29160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91600" indent="-29160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91600" indent="-29160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91600" indent="-29160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ean Value Theore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.M.C. Durfee High School - Fall River, MA 11/10/12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 typical problem: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1270080" y="3187800"/>
            <a:ext cx="104648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y doesn’t this work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44160" y="2362320"/>
            <a:ext cx="1046484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an you find a value “c” on the interval [1 , 4] that satisfies the Mean Value Theorem for the function                               ?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8" name="Picture 3" descr=""/>
          <p:cNvPicPr/>
          <p:nvPr/>
        </p:nvPicPr>
        <p:blipFill>
          <a:blip r:embed="rId2"/>
          <a:stretch/>
        </p:blipFill>
        <p:spPr>
          <a:xfrm>
            <a:off x="3987720" y="4419720"/>
            <a:ext cx="340380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y doesn’t this work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1270080" y="3187800"/>
            <a:ext cx="104648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y doesn’t this work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1270080" y="3187800"/>
            <a:ext cx="104648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Rolle’s Theore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86960" y="3276720"/>
            <a:ext cx="9906120" cy="274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f f(x) is continuous on [a , b] and differentiable on (a , b) and f(a) = f(b), then for some c on [a , b], f’(c) = 0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Rolle’s Theore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6" name="Content Placeholder 3" descr="http://upload.wikimedia.org/wikipedia/commons/thumb/9/99/Rolle's_theorem.svg/438px-Rolle's_theorem.svg.png"/>
          <p:cNvPicPr/>
          <p:nvPr/>
        </p:nvPicPr>
        <p:blipFill>
          <a:blip r:embed="rId1"/>
          <a:stretch/>
        </p:blipFill>
        <p:spPr>
          <a:xfrm>
            <a:off x="2235240" y="251460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68560" y="457200"/>
            <a:ext cx="1046448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at Do I need to Know for the AP Exam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269720" y="373356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43040" indent="-743040">
              <a:buClr>
                <a:srgbClr val="ffffff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nd the value of a function on an interval that satisfies the MV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743040" indent="-743040">
              <a:buClr>
                <a:srgbClr val="ffffff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ive information about a function using MVT and other theorem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743040" indent="-743040">
              <a:buClr>
                <a:srgbClr val="ffffff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Know whether to use the MVT or Rolle’s Theorem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743040" indent="-743040">
              <a:buClr>
                <a:srgbClr val="ffffff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Justify a statement using the MV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68560" y="1371600"/>
            <a:ext cx="1046448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ractice AP Problems:  Multiple Choic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actice with the following 3 AP multiple choice problem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68560" y="1447920"/>
            <a:ext cx="1046448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nswers: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269720" y="3809880"/>
            <a:ext cx="1046484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2003 #80 – B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1998 #4 – B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1998 #91 - 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68560" y="1371600"/>
            <a:ext cx="1046448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ractice AP Problems:  Free Respons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actice with the following 3 AP Free Response problem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at gives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fter I started driving this morning, I passed a speed trap going 65 mph (the legal speed limit). 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 half hour later, I passed another speed trap 40 miles down the same highway, still going 65 mph (the legal speed limit)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cop pulls me over and issues me a ticket for speeding.  What gives?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he End!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269720" y="5206680"/>
            <a:ext cx="10464840" cy="14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at is the Mean Value Theorem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efore I give it away, speak to the people around you and try to come up with a “common sense” definition of the Mean Value Theorem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ean Value Theore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64800" y="1841040"/>
            <a:ext cx="111762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f a function f(x) is continuous on [a , b] and differentiable on (a , b), then, for some c on [a , b]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6603840" y="5029200"/>
            <a:ext cx="852480" cy="1231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3"/>
          <a:stretch/>
        </p:blipFill>
        <p:spPr>
          <a:xfrm>
            <a:off x="1158840" y="4521240"/>
            <a:ext cx="1088856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Looking at the MVT graphically: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2336760" y="3097080"/>
            <a:ext cx="8572680" cy="612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y not the “Nice” Value Theorem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1930320" y="3065400"/>
            <a:ext cx="8944200" cy="64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 typical problem: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482400"/>
            <a:ext cx="10464840" cy="612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nd a number “c” on the interval [-1 , 3] that satisfies the Mean Value Theorem for the function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2"/>
          <a:stretch/>
        </p:blipFill>
        <p:spPr>
          <a:xfrm>
            <a:off x="6451560" y="4800600"/>
            <a:ext cx="114480" cy="1652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3"/>
          <a:stretch/>
        </p:blipFill>
        <p:spPr>
          <a:xfrm>
            <a:off x="4857840" y="3816360"/>
            <a:ext cx="36352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 typical problem: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787320" y="2743200"/>
            <a:ext cx="1165860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 typical problem: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270080" y="3187800"/>
            <a:ext cx="104648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ppman, Nick</dc:creator>
  <dc:description/>
  <dc:language>en-US</dc:language>
  <cp:lastModifiedBy>mpstech</cp:lastModifiedBy>
  <dcterms:modified xsi:type="dcterms:W3CDTF">2012-11-09T20:39:48Z</dcterms:modified>
  <cp:revision>15</cp:revision>
  <dc:subject/>
  <dc:title>Mean Value Theorem</dc:title>
</cp:coreProperties>
</file>